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A44-B088-4247-A513-6D877BD1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840-A772-4782-A5EF-71A98178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CAD0-2709-42E9-9224-B1437099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3AC-01F2-45D6-AD32-E0F06991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ECF7-344B-4ECD-8C14-8B816F45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AF60-9AD0-4339-A638-6AA035DA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BFDE-4C9A-4BDF-B4C7-3CDB3FAB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249-615E-46AE-818E-9F979BEE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AF8-F9CF-4B6E-B0BA-356CCD13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543-572D-4C2F-AC0D-B245B596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787-17D3-4488-A49B-67715799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05F-EF9D-4C98-BA12-6E6FD0C6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AE21-707B-48DC-8D84-CF5217CB5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4038480" cy="5400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2916" t="0" r="28565" b="0"/>
          <a:stretch/>
        </p:blipFill>
        <p:spPr>
          <a:xfrm>
            <a:off x="4284720" y="620640"/>
            <a:ext cx="4621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5400720" cy="4456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0" r="4267" b="13103"/>
          <a:stretch/>
        </p:blipFill>
        <p:spPr>
          <a:xfrm>
            <a:off x="3924360" y="3409920"/>
            <a:ext cx="49687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8:47:52Z</dcterms:created>
  <dc:creator>01690112</dc:creator>
  <dc:description/>
  <dc:language>en-US</dc:language>
  <cp:lastModifiedBy>01690112</cp:lastModifiedBy>
  <dcterms:modified xsi:type="dcterms:W3CDTF">2009-07-21T09:07:12Z</dcterms:modified>
  <cp:revision>2</cp:revision>
  <dc:subject/>
  <dc:title>Slide 1</dc:title>
</cp:coreProperties>
</file>